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61839"/>
        <c:axId val="82360729"/>
      </c:barChart>
      <c:catAx>
        <c:axId val="10461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60729"/>
        <c:crosses val="autoZero"/>
        <c:auto val="1"/>
        <c:lblAlgn val="ctr"/>
        <c:lblOffset val="100"/>
        <c:noMultiLvlLbl val="0"/>
      </c:catAx>
      <c:valAx>
        <c:axId val="82360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61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A62-FD95-4FE4-9329-CA794621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1582-B80F-4F9B-BA88-96070DA0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6175-2D43-4194-A018-3CD54A60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C2F-7510-453F-A062-AF69052C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C26-98A6-47EE-BE92-C1C2DE87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8AC-A0C1-44DA-9AD1-92865CAF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9C4-B451-466F-9BC2-78C84F1E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C91-CF65-4A7E-88C6-4E93A738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532-38BA-4D16-A37B-3D1B01FA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1EB-54B1-4A3E-A2AE-C5E21D7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B92-3B78-46E2-B021-8C895EDF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313-F590-4E34-9FC2-6159C031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9DC76-C090-4781-83C4-442F6C6FCC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