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4613"/>
        <c:axId val="60251765"/>
      </c:barChart>
      <c:catAx>
        <c:axId val="1364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51765"/>
        <c:crosses val="autoZero"/>
        <c:auto val="1"/>
        <c:lblAlgn val="ctr"/>
        <c:lblOffset val="100"/>
        <c:noMultiLvlLbl val="0"/>
      </c:catAx>
      <c:valAx>
        <c:axId val="60251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4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85D-A3F0-49FD-BC7E-9FA73A70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D67-BD89-4894-B19C-9C0DFFBC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856-2668-475D-AC4A-12E6A6D9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14F-6259-4631-B952-42D74961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2E9-B71F-4D22-837F-A8971515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64F-EAF5-44AC-A01B-B23E9638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323-8479-4C48-B39D-EBC426E3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2CF-FBE8-41B3-A3B6-C9826F70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D1C-1D90-4AE8-B2F7-57957C3A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14A-32A0-48B3-BA9D-3AA972D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DBF-8FD0-44BD-9034-89A4C1BE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7A5-6D2F-4908-9410-2303B6BB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23098-B13E-409D-895B-79C400A866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