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70076"/>
        <c:axId val="3086259"/>
      </c:barChart>
      <c:catAx>
        <c:axId val="38570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6259"/>
        <c:crosses val="autoZero"/>
        <c:auto val="1"/>
        <c:lblAlgn val="ctr"/>
        <c:lblOffset val="100"/>
        <c:noMultiLvlLbl val="0"/>
      </c:catAx>
      <c:valAx>
        <c:axId val="3086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70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E9E-0406-42F6-8A62-DE70607C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196-DA31-4487-96EE-545A3A09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E9D-763D-4CB2-B434-17748865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F16-C676-40A5-BCD9-3DB59ADB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8A2-4BB2-4AC3-96E0-309BB720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077-2621-4B8A-A5F6-D92C5C42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EA1-0F5F-4F22-9941-FB8650A7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721-0EE5-44E8-80B7-8EC2A9BF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6AF-FE99-40BE-92F9-5D1C8847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913-97AB-49C0-886B-6706171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14B-8FE5-4F5E-B53D-9974C69A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6A8-ADCC-4270-8F6A-489208E3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4AE18-B2AD-4B41-818C-BE0A926726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