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14800"/>
        <c:axId val="64021422"/>
      </c:barChart>
      <c:catAx>
        <c:axId val="54514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21422"/>
        <c:crosses val="autoZero"/>
        <c:auto val="1"/>
        <c:lblAlgn val="ctr"/>
        <c:lblOffset val="100"/>
        <c:noMultiLvlLbl val="0"/>
      </c:catAx>
      <c:valAx>
        <c:axId val="64021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14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76C-860D-46D9-9130-D9CCD6E3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602-F49B-487F-8F26-5ED9D457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7A8-E4A4-4D7B-8365-20E9F403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A48-FF0A-42C5-9A75-8C4183DF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0C0-53C0-4A5B-8335-EA17FD8A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732-6C74-474A-A30C-A19A10A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136-BFEF-479C-B27B-746214A6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092-3D66-4EF5-95BB-71D21597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553-2F53-4919-BA6C-5793DB87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7A9-80C5-4163-A9D6-440DC22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1FB-691E-4670-9CD7-50B31E3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6AA-2B5D-40F1-A34D-64154876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273EC-3E69-4C84-BC65-F568D6596D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