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28401"/>
        <c:axId val="66191345"/>
      </c:barChart>
      <c:catAx>
        <c:axId val="71128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91345"/>
        <c:crosses val="autoZero"/>
        <c:auto val="1"/>
        <c:lblAlgn val="ctr"/>
        <c:lblOffset val="100"/>
        <c:noMultiLvlLbl val="0"/>
      </c:catAx>
      <c:valAx>
        <c:axId val="66191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28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D99D-82E6-47DE-B149-DCF45237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99C-7D6D-40CF-97B9-58A9D7BC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47F-FFD0-4437-BB24-A2BD9B7C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29E-3CAF-4FDA-BCCD-F03F70F5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2AD-ADF5-4CD3-8EDB-E0EF3748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4350-E935-4B37-9B2E-D49397DB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CEDB-1D6A-4CD7-AACA-FDB15132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57BD-372B-4950-8DD2-F8D35179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B52-4CB2-4728-8E91-8552D48D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A3A-688D-4E63-831E-D3046FC9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5DA2-CE8D-4A60-9DED-AB072F78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F94-1F8B-42A4-A1B0-A1D6E851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F005B-DA5F-4F14-B167-B7A62076EC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