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58245"/>
        <c:axId val="89703000"/>
      </c:barChart>
      <c:catAx>
        <c:axId val="82058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03000"/>
        <c:crosses val="autoZero"/>
        <c:auto val="1"/>
        <c:lblAlgn val="ctr"/>
        <c:lblOffset val="100"/>
        <c:noMultiLvlLbl val="0"/>
      </c:catAx>
      <c:valAx>
        <c:axId val="89703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58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966-3319-4955-A54B-813E1F94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29F-6378-4579-847F-A2081540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9EC-2CB6-49D8-9800-E2EA1705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054-F554-4C48-A9D7-A765A9A8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FA5-D2F9-43BE-B292-308E535F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7F6-AB4D-4054-BDA1-53D7823C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E60-8CCD-472D-9FA0-0F029F81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58A-A024-464C-B65B-DF569F2D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D96-BCD1-4ABF-9691-85B227A6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71B-28D2-488E-93EA-68B4902D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044-8B77-418B-AE5A-2E64CFC0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9D3-8B2E-4A45-AEA4-5691FE85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6112C-1C76-4EAB-A097-834D03DE48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