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43147"/>
        <c:axId val="80567173"/>
      </c:barChart>
      <c:catAx>
        <c:axId val="61743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67173"/>
        <c:crosses val="autoZero"/>
        <c:auto val="1"/>
        <c:lblAlgn val="ctr"/>
        <c:lblOffset val="100"/>
        <c:noMultiLvlLbl val="0"/>
      </c:catAx>
      <c:valAx>
        <c:axId val="80567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43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C08-FE0A-4029-909E-7697D5C0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8CC-9375-407B-A3DF-DAE03BE3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518-AEB2-47E6-94D7-C1916E57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046-815B-4E79-9743-26C6F875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DD6-3FE4-452B-AA4E-3CF91FD0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3B6-848A-4146-B64D-2524D96F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27D-E217-4637-8072-24AFA1D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534-E02F-4CD2-BD01-72D23C01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371-02B7-4D2D-97DD-E2D28546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8D4-14F3-47A1-9523-7CD8046F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035-A837-4E02-A2AE-C6DD4D8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B9C-AFDC-4642-8F1E-0D8A056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40F5D-436B-430D-824C-94D78BA4E9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