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55083"/>
        <c:axId val="7272106"/>
      </c:barChart>
      <c:catAx>
        <c:axId val="61955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2106"/>
        <c:crosses val="autoZero"/>
        <c:auto val="1"/>
        <c:lblAlgn val="ctr"/>
        <c:lblOffset val="100"/>
        <c:noMultiLvlLbl val="0"/>
      </c:catAx>
      <c:valAx>
        <c:axId val="7272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55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F2B-6C4C-4948-B13D-540DEBA3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698-3E08-4AC8-BB01-AFCFF396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B31-55B6-4FF0-A240-F21CB9E8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30A-0A8E-4929-9677-B898B2CA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B53-003E-4A92-8051-C9ABEDCF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214-328F-414D-B4D4-CCE6219B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14B-0B3D-4AD7-BB1C-2C36EB20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3F0-E84B-48D6-9585-C5BD029B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676-7A82-4944-9C21-B998809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36C-359C-4FB0-87D3-9A168A3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6F5-CD83-4E78-B593-4C0F7294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0AD-457B-4864-AA1F-274F321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1E646-CCA1-4AFE-AD12-A35BD6F5D5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