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45678"/>
        <c:axId val="1070246"/>
      </c:barChart>
      <c:catAx>
        <c:axId val="65645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0246"/>
        <c:crosses val="autoZero"/>
        <c:auto val="1"/>
        <c:lblAlgn val="ctr"/>
        <c:lblOffset val="100"/>
        <c:noMultiLvlLbl val="0"/>
      </c:catAx>
      <c:valAx>
        <c:axId val="1070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45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466-2E70-4C17-B5CF-08073B61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7B8-8CE2-45FC-9563-3ED96636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120-B968-4A38-8613-89EFBE65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44D-5688-4F07-9295-4A013620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440-4062-4A6E-AE5E-8A539535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36D-C49D-42F5-A3ED-E7361B2A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737-957D-4936-B45C-AD086545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54C-16C0-40EB-8E10-CAD87861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10C-52B9-4668-9BEC-51FA5D01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998-2A57-448C-9F63-874B42E5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AAF-D711-46CF-B040-0AFD07B3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2AD-42C8-4AA1-80C9-A53F85C6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A4BCC-764B-4C03-9BEE-F48FB4D65B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