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09943"/>
        <c:axId val="66471515"/>
      </c:barChart>
      <c:catAx>
        <c:axId val="83809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71515"/>
        <c:crosses val="autoZero"/>
        <c:auto val="1"/>
        <c:lblAlgn val="ctr"/>
        <c:lblOffset val="100"/>
        <c:noMultiLvlLbl val="0"/>
      </c:catAx>
      <c:valAx>
        <c:axId val="66471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09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893-79CB-4A4D-AA4D-39654189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219-F9E5-4936-B72D-BCBEE349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473-408D-4F8C-AADF-68C8E36B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439-ABE5-442D-B64A-D3E27C50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092-2B38-40DD-B6A1-2F651EAD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CDE-0BBC-46C6-A056-6D826A3F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E2D-F05B-4ACE-B0CB-DF0DB6A7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F70-BF8C-4066-9294-3AFA27E0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069-89DC-403A-A1CA-CEE43FBD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530-D412-4A60-9396-8DE65CD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38C-977A-4C6E-92E9-28C0A86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96B-9AC6-4E4C-9038-DD1BDFC2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5386F-98AF-4493-9878-4A1683DFF9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