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26661"/>
        <c:axId val="49471343"/>
      </c:barChart>
      <c:catAx>
        <c:axId val="82326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71343"/>
        <c:crosses val="autoZero"/>
        <c:auto val="1"/>
        <c:lblAlgn val="ctr"/>
        <c:lblOffset val="100"/>
        <c:noMultiLvlLbl val="0"/>
      </c:catAx>
      <c:valAx>
        <c:axId val="49471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26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2EB-137C-4EF4-BE01-BD880410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91C-2394-4511-8747-0270E562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26B-0D74-4C4D-83B0-C00E564A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AD3-0934-4B8E-8E00-DA296FD6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2E5-94C6-4773-8ED2-8CF9935A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328-9592-44C3-A103-C5E9CAEB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A7A-0D46-4FF4-B340-968D405A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6BE-6DA3-454C-91A8-96F1D72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E4C-32D5-4FC3-A72E-7ACE434C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B1F-BBFD-4ECE-8ABF-A379247F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5E9-DABC-4947-8332-A248C36E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C70-1963-4924-B2E9-4CCC004C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D742A-B786-4724-A4FA-661BA1BD85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