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68981"/>
        <c:axId val="3135719"/>
      </c:barChart>
      <c:catAx>
        <c:axId val="49468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5719"/>
        <c:crosses val="autoZero"/>
        <c:auto val="1"/>
        <c:lblAlgn val="ctr"/>
        <c:lblOffset val="100"/>
        <c:noMultiLvlLbl val="0"/>
      </c:catAx>
      <c:valAx>
        <c:axId val="3135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68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CA2-62C1-4591-BDF6-57E9979A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0E8-038D-4587-BF63-0DA95DE0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2CB-A2BB-4766-AA5E-18AC32C9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0D3-EDAD-4A62-AC4F-8FDA4D18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6C3-DF6A-4E31-A36B-C9D3AFC1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D7D-F94E-40DA-8ADB-37AFBB79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67E-08FE-4F6C-A41C-51DAEEC7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93E-A7E1-4D3A-8E44-AED5BB5A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CDB-45E4-4DDA-9D18-76453150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ED5-D935-45B3-8920-AAE4230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D20-E031-48F3-BDAA-F63D8AA2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5EF-552D-4E03-BAB6-2187C08C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945FD-CC74-4A4D-B973-FEC6717030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