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883035"/>
        <c:axId val="63361313"/>
      </c:barChart>
      <c:catAx>
        <c:axId val="668830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61313"/>
        <c:crosses val="autoZero"/>
        <c:auto val="1"/>
        <c:lblAlgn val="ctr"/>
        <c:lblOffset val="100"/>
        <c:noMultiLvlLbl val="0"/>
      </c:catAx>
      <c:valAx>
        <c:axId val="63361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830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AF70-BB01-4C69-BFFC-D86A419E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782D-CA67-4D18-845E-13C759DA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496B-0832-4488-84D4-13A9CF93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D033-404E-4215-A6A5-9331494F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CCA4-7FFF-4871-8021-50FED02D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A372-7242-4476-82AF-3A8FF764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8724-16B9-463C-AE5C-02B5AAED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2C7B-5362-45E5-864F-E36E093B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5299-C5B9-48C7-A55D-42FBEF3C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754-D6C2-440C-8C4C-47688D9F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59A1-52C8-4CD5-B735-B78BC784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9DC-4F0B-437A-8D4A-E614CCD7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5AB73-F6EE-41B9-906E-DCE374DF8C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