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65927"/>
        <c:axId val="68389583"/>
      </c:barChart>
      <c:catAx>
        <c:axId val="94765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89583"/>
        <c:crosses val="autoZero"/>
        <c:auto val="1"/>
        <c:lblAlgn val="ctr"/>
        <c:lblOffset val="100"/>
        <c:noMultiLvlLbl val="0"/>
      </c:catAx>
      <c:valAx>
        <c:axId val="683895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65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6EC-BB9B-4FEF-9B91-6C66C61A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D1E1-EA7D-460E-ABCA-BDE0EE58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269-D534-468C-952A-69EE5A42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F3B-AAFB-4992-97F7-9BAB422C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697E-A70D-4F2C-9F12-76A90225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755-CA73-432B-9A34-FCA1CBC4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C20-773D-4DC7-A4BA-3D7BB216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159-F25C-46F1-8D09-5299BB72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0F7-3B0F-4B02-8F02-AD6CD3AC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D2B-7C0C-4D46-9E63-DE28DA63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4FF-40B4-434A-8EF9-EB609F1A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655B-6738-4D1C-9BC3-AFAE17FC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87858-4EDA-4714-8C81-B981FE7784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