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50389"/>
        <c:axId val="14166939"/>
      </c:barChart>
      <c:catAx>
        <c:axId val="45750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66939"/>
        <c:crosses val="autoZero"/>
        <c:auto val="1"/>
        <c:lblAlgn val="ctr"/>
        <c:lblOffset val="100"/>
        <c:noMultiLvlLbl val="0"/>
      </c:catAx>
      <c:valAx>
        <c:axId val="14166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50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7C6-F4C4-434D-A8DC-0CBA86CC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D0D-235A-4261-8C0F-8DBE61AA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D8C-A662-4105-957A-A830DBE7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F49-8B67-44C3-8B1C-C9C70847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472-B76B-41ED-B6BA-A49EC1F0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04D-8422-404F-9B03-E757BF90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34B-38FB-4BBF-B63A-D777F8EF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122-688D-4FB8-AA17-A4C49535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83A-5B84-44A5-B611-74184DAE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065-D437-47D8-B29B-60305F7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DE8-9CFF-4234-B9B6-303A44FC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8C7-2653-4698-8DDF-E725796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FB8E0-EE92-464D-9D85-08F6851DA9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