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668087"/>
        <c:axId val="10377132"/>
      </c:barChart>
      <c:catAx>
        <c:axId val="346680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377132"/>
        <c:crosses val="autoZero"/>
        <c:auto val="1"/>
        <c:lblAlgn val="ctr"/>
        <c:lblOffset val="100"/>
        <c:noMultiLvlLbl val="0"/>
      </c:catAx>
      <c:valAx>
        <c:axId val="103771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680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00EF-38BE-4036-ACF0-9BBE51DBC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17CE-4794-488A-8A59-0FA5623A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7EC6-CDE5-4352-9E99-B9C3A9D5B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A720-FCDD-4D2B-84CC-AF1CCD333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4C1A-95EE-4E48-8C85-8F747A51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5FCF-1E55-43F5-ACA5-C6E1B1AE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A1F1-48E2-43C0-A89A-F7C22470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6832-C391-4EA3-8057-82CE25CB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81C4-23F9-45EC-A362-9D168868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0A23-37E3-40D3-A474-909E59D4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C6E7-ADFE-4C81-A607-7054E976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3F26-6F1E-483C-9AA9-E140907E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44C068-5B4A-449A-BB6B-53082CD555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