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1938"/>
        <c:axId val="7969540"/>
      </c:barChart>
      <c:catAx>
        <c:axId val="6731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9540"/>
        <c:crosses val="autoZero"/>
        <c:auto val="1"/>
        <c:lblAlgn val="ctr"/>
        <c:lblOffset val="100"/>
        <c:noMultiLvlLbl val="0"/>
      </c:catAx>
      <c:valAx>
        <c:axId val="7969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1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404-EC68-4E08-9AB0-BB59F31E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4A7-100E-4254-8DF5-D239E244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4BA-312E-4C8C-96FE-54DDC20A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859-1E09-40FB-9676-F2859966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8AB-90C6-4DC0-AEE0-D163192B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061-55A9-42B2-A8F4-DE8D9FBE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922-CA41-45C6-9966-217E0A6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6F0-BCE0-46C8-86DF-6714CF39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9E4-8713-4E17-B177-0C713341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738-B17A-4C5D-9ADA-2939488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491-738F-4F21-81A7-48C1065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BFC-4BA9-4E79-9408-80311C7B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E6B03-3388-404D-A659-C1D916421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