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993658"/>
        <c:axId val="81659307"/>
      </c:barChart>
      <c:catAx>
        <c:axId val="149936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59307"/>
        <c:crosses val="autoZero"/>
        <c:auto val="1"/>
        <c:lblAlgn val="ctr"/>
        <c:lblOffset val="100"/>
        <c:noMultiLvlLbl val="0"/>
      </c:catAx>
      <c:valAx>
        <c:axId val="81659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936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E8E9-4CBD-4952-A30A-7C01DEEB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6BD-8979-4124-9FEE-D62E8000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2A15-CCCF-4379-AB30-D3B54BC2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55E-6BCC-412A-9FCE-49FE1B4A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E08C-3A5C-4D98-B1FA-62DA0CDA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2090-FF17-4EA6-95E2-6B4683F2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8C4B-596C-4541-9913-D4AA116B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FD45-1056-4BA4-B0BF-CB9EFD38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E3B4-2ED3-413D-9D6D-91F98458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B0A8-BEA7-451E-954F-A3AD76E5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5F50-C1DC-4C3A-A168-A833AF9D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076E-C56B-4708-8188-4502D6A5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C4261-7425-4FBF-9EF1-3A6AC5AC34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