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05950"/>
        <c:axId val="28011970"/>
      </c:barChart>
      <c:catAx>
        <c:axId val="96505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11970"/>
        <c:crosses val="autoZero"/>
        <c:auto val="1"/>
        <c:lblAlgn val="ctr"/>
        <c:lblOffset val="100"/>
        <c:noMultiLvlLbl val="0"/>
      </c:catAx>
      <c:valAx>
        <c:axId val="28011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05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07B-DD90-4459-98DC-1CC416C5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136-3737-4A09-A185-E90B7D80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D49-1F32-47B8-A68E-625B464E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326-C78B-487E-8DA0-DE126792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CFD-0922-407D-8554-DFB71C57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028-5DCB-437F-A13A-ECC93CF9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D23-4927-4E30-BD4D-A5208B7A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21A-143B-49A4-9625-0356E1FE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3FD-8F09-462F-96AB-3BE262CF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00D-94DB-4CF2-B58C-8C08CFE8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057-CCD5-4757-95FA-E9FE7D39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590-8D4F-49EB-A70C-26899568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1292E-F7B9-476A-B073-EFCCABBB44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