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3926"/>
        <c:axId val="40101396"/>
      </c:barChart>
      <c:catAx>
        <c:axId val="4333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01396"/>
        <c:crosses val="autoZero"/>
        <c:auto val="1"/>
        <c:lblAlgn val="ctr"/>
        <c:lblOffset val="100"/>
        <c:noMultiLvlLbl val="0"/>
      </c:catAx>
      <c:valAx>
        <c:axId val="40101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3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3A3-7CF8-4ACB-B37C-62985E03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3E9-0991-4A9D-8138-A226544C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9E1-6319-45F3-B179-82A7AD70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917-7C74-43C1-A01B-43828E38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754-4C04-44B7-AC7D-08C4F464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304-D43D-4198-B5B6-0B5ADA04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D41-1267-4BCA-96D3-00D4034C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647B-5086-4A5D-9730-32790FE1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4CD-7C0B-4905-AEAC-43C65AAD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2F7-BF34-42F3-9DE9-C800274F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750-64C9-4454-87A2-56059BE9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EE3-0FC1-4D32-80FB-506A1532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A4455-178A-4382-912C-A804B9AE1F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