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243232"/>
        <c:axId val="71999850"/>
      </c:barChart>
      <c:catAx>
        <c:axId val="742432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99850"/>
        <c:crosses val="autoZero"/>
        <c:auto val="1"/>
        <c:lblAlgn val="ctr"/>
        <c:lblOffset val="100"/>
        <c:noMultiLvlLbl val="0"/>
      </c:catAx>
      <c:valAx>
        <c:axId val="719998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432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29E4-5ECF-4162-B557-5E78A35E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3DDB-8FE3-44A7-8ABB-5C54C85F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A0D0-ED3A-496C-867F-DDE40B92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E85B-A5B3-4D3C-92F3-82B7CD8B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EBD1-4925-417C-B353-42831C4A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B420-76FA-4276-AC11-EAC627FB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A707-E2CB-4420-BD11-AFCDD2BD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118D-CF2F-4981-BEEC-FD75A8EF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259B-F76C-4343-9F6C-580DA4C6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693E-FDE5-4DFE-B8A0-CA6AC3C9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0E24-83FF-4456-BDB5-D5E700AF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B400-3E18-447A-92C9-32AAAA9C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503D0-28AC-439F-948C-79212B1327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