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36775"/>
        <c:axId val="70631675"/>
      </c:barChart>
      <c:catAx>
        <c:axId val="60036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31675"/>
        <c:crosses val="autoZero"/>
        <c:auto val="1"/>
        <c:lblAlgn val="ctr"/>
        <c:lblOffset val="100"/>
        <c:noMultiLvlLbl val="0"/>
      </c:catAx>
      <c:valAx>
        <c:axId val="70631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36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FE6-DC24-4EDB-A1BF-DDFD73F9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DE1-9688-4CE7-AE02-CBDA131C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7DB-9F77-49B8-9FB1-C1C980F8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E5F-67A0-40AB-BCF7-0A83EB99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891-7499-4410-884C-AE404B8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508-FCFF-4A3E-8E51-3B3393B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F1B-AAEF-4932-BA2B-CA342610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652-5344-4E28-8290-94E6F27C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D8B-3675-4380-BF6A-5A676EAF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959-7DB4-40D9-9CB5-3ACD216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EC1-11EA-4EDE-9ADA-30C918C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133-5EFA-4F21-9D24-DBA140E4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DA586-E506-45C5-9DA2-1C7BB81517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