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957036"/>
        <c:axId val="6564883"/>
      </c:barChart>
      <c:catAx>
        <c:axId val="39957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64883"/>
        <c:crosses val="autoZero"/>
        <c:auto val="1"/>
        <c:lblAlgn val="ctr"/>
        <c:lblOffset val="100"/>
        <c:noMultiLvlLbl val="0"/>
      </c:catAx>
      <c:valAx>
        <c:axId val="65648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957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5729-6968-4735-A96A-E3DE5230C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D1F-ADBB-46F1-8079-3E95AB3FC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17C-E7B9-4837-BAC5-CFF93FEC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0609-63CB-460A-9842-0488D0FB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D704-A0F5-4A00-B526-69F09E899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9015-C78F-4EF9-AFE7-962DA1C4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00FAA-B865-4CD8-81DF-8AE30A45A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6311-AE24-4DC5-B8D3-9A1694F6F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B38-AC87-4061-AF63-8F7B7F169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25E-4DD0-4639-B08D-B62F68B4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11A6-FE11-44BF-8DD8-5D6B3982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19B-D39A-47BA-86DD-E9DB6F43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7FF9B-C73D-483D-A7E9-854BEB9A36D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