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77996"/>
        <c:axId val="72947445"/>
      </c:barChart>
      <c:catAx>
        <c:axId val="26077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7445"/>
        <c:crosses val="autoZero"/>
        <c:auto val="1"/>
        <c:lblAlgn val="ctr"/>
        <c:lblOffset val="100"/>
        <c:noMultiLvlLbl val="0"/>
      </c:catAx>
      <c:valAx>
        <c:axId val="72947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77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B4D-F2C7-4F83-A619-86E5C2C8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7D6-63B2-4988-856A-20E2949F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F74-D102-4D3E-97C7-F41BD6D2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359-18FC-48DA-A45A-40DB7114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505-8CB2-4C08-89C9-ABE428D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B04-DBDC-462B-B873-0465BE53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330-C6D0-4C2D-9B4D-7BAA7019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4C7-F9D1-4822-AF55-348DC56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E93-C7CD-49D8-AD53-AD7605E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ECE-4F40-43BF-AEA3-7F9740C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AAB-7BE7-40E2-9771-59C52D5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A81-5B4C-4456-B109-11BA5D4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F0C5A-DA33-474B-A674-40EFF1ED42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