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6597"/>
        <c:axId val="22128285"/>
      </c:barChart>
      <c:catAx>
        <c:axId val="7066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28285"/>
        <c:crosses val="autoZero"/>
        <c:auto val="1"/>
        <c:lblAlgn val="ctr"/>
        <c:lblOffset val="100"/>
        <c:noMultiLvlLbl val="0"/>
      </c:catAx>
      <c:valAx>
        <c:axId val="22128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04C-FC05-4AA5-8265-D40547E3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725-54C4-42BF-95C5-08C2B063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CCA-C42F-4E24-828C-7D6703F9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D18-6268-45EA-B62E-C284E32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B81-609A-4E69-B093-B044EB3C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E06-81EF-4EC8-B4EA-5B45D1AA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0D1-A496-438A-8E34-39C0047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BB0-7D29-49F7-A72E-2C1A909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0D0-EEA4-441A-83E1-00F1A9C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474-4ECF-4A1E-8893-46194AC8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287-D113-4490-A25A-79A6829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7A4-46F2-4BE1-BA4A-3D61749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60DD-5EE8-48EB-AA78-F815F96DB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