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18276"/>
        <c:axId val="5945392"/>
      </c:barChart>
      <c:catAx>
        <c:axId val="91182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45392"/>
        <c:crosses val="autoZero"/>
        <c:auto val="1"/>
        <c:lblAlgn val="ctr"/>
        <c:lblOffset val="100"/>
        <c:noMultiLvlLbl val="0"/>
      </c:catAx>
      <c:valAx>
        <c:axId val="59453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182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807C-42E5-4EC1-AC2B-3ED66E86E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604B-E162-4A43-8575-876286883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4EAC-BED1-4944-8F36-6FAB3D7FD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D242-B004-46DC-9445-AA5ACDEFE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2C29-C0CE-47BC-B388-BF493E6E4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2299-7FC7-47B1-B5DC-306850EB3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4618-B5B4-4684-9050-8026C5131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EDA9-8D67-485B-9261-FFED247B5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EB2A-3969-4A3D-B43F-55D78C41C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4CF1-A481-4A77-804D-80F43A0A7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55DE-8CD9-4D11-8E01-BE5BE816C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1988-E13E-4429-AB87-010604F3A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FE7005-53A5-4547-9EDA-1673148F763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