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68056"/>
        <c:axId val="59065993"/>
      </c:barChart>
      <c:catAx>
        <c:axId val="2416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5993"/>
        <c:crosses val="autoZero"/>
        <c:auto val="1"/>
        <c:lblAlgn val="ctr"/>
        <c:lblOffset val="100"/>
        <c:noMultiLvlLbl val="0"/>
      </c:catAx>
      <c:valAx>
        <c:axId val="59065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6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65F-7D03-4543-AFD7-C8CF9717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E96-5505-4365-A2DF-2AA7CE5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BCE-247E-49DD-AB6A-213C3DA7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7AC-67C1-446E-8BC9-815DD54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BF0-9144-4288-A9CD-82AB1F8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960-1143-485A-889A-5289A69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942-701B-4440-932D-5AE9FC7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761-0004-40EA-A926-13A1D03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4C9-0905-49B7-BCCE-E1F836F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CAE-DA9D-419B-85D5-78AADBE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E46-AD55-48D9-AE80-C6C69C1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A15-88DF-4C33-A3AB-B264D66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2F2B5-E53A-46EC-9D4D-8A4FF6A73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