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158225"/>
        <c:axId val="64622433"/>
      </c:barChart>
      <c:catAx>
        <c:axId val="781582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622433"/>
        <c:crosses val="autoZero"/>
        <c:auto val="1"/>
        <c:lblAlgn val="ctr"/>
        <c:lblOffset val="100"/>
        <c:noMultiLvlLbl val="0"/>
      </c:catAx>
      <c:valAx>
        <c:axId val="646224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1582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6F33-127B-4835-907A-BFBDAE447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AD73-D7F8-4246-B439-AE2EF78E0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8486-9364-44D8-9CB3-CC3B9AA3F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F735-EC5A-4A61-9BF2-58111985B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C035-A425-4999-9DF0-5EF2F07C3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2BE8-9B8A-4130-AC88-C8BBEFCC1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4387-5EF9-467E-B92A-75592BA21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C8FD-6C5B-4777-9879-9AF61B2EB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91C0-0702-4F37-8ED8-C487092EA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AACF-5CAD-45E8-A427-8A54C5EA6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90C1-6F03-4A47-9051-90451E935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0FEF-A208-4FF8-A57C-C84400E3D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0452A5-A73C-457B-B8DB-026DF1FE44C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