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016079"/>
        <c:axId val="86124054"/>
      </c:barChart>
      <c:catAx>
        <c:axId val="350160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124054"/>
        <c:crosses val="autoZero"/>
        <c:auto val="1"/>
        <c:lblAlgn val="ctr"/>
        <c:lblOffset val="100"/>
        <c:noMultiLvlLbl val="0"/>
      </c:catAx>
      <c:valAx>
        <c:axId val="861240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0160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6440-F837-45DB-9BE0-11C3A2DD7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82C6-7CD7-4ED9-B55E-F38D3D4C3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754E-119A-4ABE-8B6E-E98D8FBD3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0369-E93B-469F-A0AE-56C44825E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7405-5D00-410D-BCA8-CA5B751F7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4772-1774-4403-BF8C-CF638CF68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8F6C-23B3-4974-BC9A-3085B02D6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33CD-D5BB-4352-A6BF-DF39CF85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4A79-EDDA-453E-A02D-05868EAA4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9C39-F15D-4B28-B85F-FA7AAB74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5E7E-C654-4C39-BDAA-85365FD1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678C-9E06-444D-B24D-9845F773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759EA9-6B96-4E61-A309-75F7B5E598D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