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63552"/>
        <c:axId val="62140984"/>
      </c:barChart>
      <c:catAx>
        <c:axId val="543635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40984"/>
        <c:crosses val="autoZero"/>
        <c:auto val="1"/>
        <c:lblAlgn val="ctr"/>
        <c:lblOffset val="100"/>
        <c:noMultiLvlLbl val="0"/>
      </c:catAx>
      <c:valAx>
        <c:axId val="621409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635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5924-5E69-43ED-8853-B12BA763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39A-6475-48A1-B179-76D6123D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2618-6A2A-4953-B97F-BAFD3F46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5AF7-1BA5-463A-999D-8819CF11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E09F-86B0-462F-8D18-FF70C923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2CF-C9EA-45DE-A021-15B6D845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2F6-1BB5-4BE3-B910-F1E90B01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41B-36B1-4FF7-8CCC-3871598D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9F6-92F6-4CB5-9C38-7C05F04F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694-3AE2-478A-AC48-132D11B3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CFF-921F-44E7-B824-CC92FAF5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3BFF-BF54-4B3C-8CB1-61532872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CDFBA-9A25-4103-8B7F-A50D0D46A0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