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92703"/>
        <c:axId val="92436882"/>
      </c:barChart>
      <c:catAx>
        <c:axId val="68927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36882"/>
        <c:crosses val="autoZero"/>
        <c:auto val="1"/>
        <c:lblAlgn val="ctr"/>
        <c:lblOffset val="100"/>
        <c:noMultiLvlLbl val="0"/>
      </c:catAx>
      <c:valAx>
        <c:axId val="92436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27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B93-E293-4454-8F8E-98C1C17C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141B-53E8-4A4B-96BB-2893A751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172A-06B1-40BA-A03A-10C11942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3651-7009-4BA2-9A07-CA715E96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D78-055B-4AC4-AA82-AD2AA933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98F-57CA-4376-A208-B64DE198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28AC-3C8A-41F5-9C09-BF567B04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8FE0-82ED-49CF-8692-E3EEFBD8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820-7CA8-49CF-833C-C226E343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48DA-1695-4508-84E8-63C706FE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C799-BF06-480B-862D-A727B910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E17-430D-4CF3-A976-6CCF35EB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0F933-EA9E-48C7-838E-AB28FDD5A9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