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92510"/>
        <c:axId val="80838241"/>
      </c:barChart>
      <c:catAx>
        <c:axId val="92692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38241"/>
        <c:crosses val="autoZero"/>
        <c:auto val="1"/>
        <c:lblAlgn val="ctr"/>
        <c:lblOffset val="100"/>
        <c:noMultiLvlLbl val="0"/>
      </c:catAx>
      <c:valAx>
        <c:axId val="80838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92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926-69AD-411E-88AE-EC8C5B76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A77-6F87-49D6-821A-19E9108A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1D5-9A65-4F18-8775-B0F0C129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C3F-4ECA-4A5D-B443-9D4FA5BA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24E-C6A3-4913-84EB-EC1B829B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8D7-A073-455B-9CBC-D92C3C2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53C-390C-48FA-AC82-D495858E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A96-83CD-4B5F-9BE1-67F395A9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9E5-F74B-41A8-87EC-DF5059EA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5D7-3A6A-4872-B439-6E38E18D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008-3DE4-4BF8-B77C-7DECA54C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BB9-7998-4404-AB97-E247483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5F5D5-987C-4A6E-A87E-350E379C0E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