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374471"/>
        <c:axId val="13199581"/>
      </c:barChart>
      <c:catAx>
        <c:axId val="893744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99581"/>
        <c:crosses val="autoZero"/>
        <c:auto val="1"/>
        <c:lblAlgn val="ctr"/>
        <c:lblOffset val="100"/>
        <c:noMultiLvlLbl val="0"/>
      </c:catAx>
      <c:valAx>
        <c:axId val="131995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744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FFD4-5BCD-4B45-9DAA-A044C2E5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D8D0-2EDF-42F5-94F0-3718F7BE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604B-4BF1-4DE9-A121-C5014E19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75F-C7FF-4ABD-9829-BB603B35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C1F1-4CC0-4E8E-BF9E-3A26DC9E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E44-97EF-46C8-A623-F75018C2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A0F2-99D3-474C-A895-4EA0990D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A96-7BA9-4FE4-822D-6606D71C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473-F618-4652-9A09-607CE2EC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7671-D180-44C9-9F8D-44215976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BD48-AEB9-43FE-B6D8-571FC40A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2883-C680-43E2-8938-596705E2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B4709-C23F-442C-B2A0-5F1A8E8B49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