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159188"/>
        <c:axId val="45333278"/>
      </c:barChart>
      <c:catAx>
        <c:axId val="681591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333278"/>
        <c:crosses val="autoZero"/>
        <c:auto val="1"/>
        <c:lblAlgn val="ctr"/>
        <c:lblOffset val="100"/>
        <c:noMultiLvlLbl val="0"/>
      </c:catAx>
      <c:valAx>
        <c:axId val="453332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1591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3F16-3E85-4EE4-9B3E-7778D3C33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FB39-90A3-4B25-B298-C7F005F9E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4A38-3549-4BC7-95A4-197441CF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4B70-AC4F-4799-8F72-6661ABB5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32AA-099A-46CE-A585-22C43E44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5290-2CE6-4F5A-88AE-2591B99B6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A89A-726A-4302-BD13-35B0486D7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806-5B60-433A-808F-132C786B9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FF7-D865-4472-A36C-DBA7784E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6DB-C9D4-43A3-8004-99BFE92C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4D7C-C232-49BD-AC92-ED98CDFA4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2612-379D-4343-94BA-720570FE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78024-F272-46C4-840B-042C4C8C94A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