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70925"/>
        <c:axId val="93632638"/>
      </c:barChart>
      <c:catAx>
        <c:axId val="10770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32638"/>
        <c:crosses val="autoZero"/>
        <c:auto val="1"/>
        <c:lblAlgn val="ctr"/>
        <c:lblOffset val="100"/>
        <c:noMultiLvlLbl val="0"/>
      </c:catAx>
      <c:valAx>
        <c:axId val="93632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70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BEE-B477-446C-978F-F99751E0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7B0-045C-4A68-AC97-7A46AA8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A3A-2D97-469F-BDF8-40B80409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667-099B-4D68-9164-A094F803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AA8-C27B-4BD0-8A67-F7D8A29D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1C9-416F-48FE-92B0-4DC09F3B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A20-E45A-4DDA-85D9-0F2E4475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538-F1DC-4B5D-9496-51067000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E6D-3602-435A-A61F-B97C2C4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545-9E07-44DA-BBCB-2843B7F7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0BD-A9C4-4BE1-8901-6DF4732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772-3D25-4226-BEB5-71A4EB7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2F974-44A9-44C3-BC7C-0485ACFAA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