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87459"/>
        <c:axId val="48786051"/>
      </c:barChart>
      <c:catAx>
        <c:axId val="83687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86051"/>
        <c:crosses val="autoZero"/>
        <c:auto val="1"/>
        <c:lblAlgn val="ctr"/>
        <c:lblOffset val="100"/>
        <c:noMultiLvlLbl val="0"/>
      </c:catAx>
      <c:valAx>
        <c:axId val="4878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87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DA8-0CE5-42EC-90F4-5841A72F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374-6707-4E78-A6EF-C5F6E94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6C1-B37B-4868-A162-FF4924A6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FFB-EFB4-4B9F-B54F-3A78226E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2E0-4AFC-47D4-AD20-0B0C145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510-2E69-4664-84E5-9D5E5C5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AC8-31A8-4BA0-95D3-4013EA5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3A2-80DA-4C2E-AC41-D64CE2F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4DA-047C-4398-A9CD-0D15784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58E-86C0-4435-8481-35DACCA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A26-B11A-4726-9EE1-FA8EDAA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49-6ECB-45D3-A622-EBACF43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04AC-6AAE-499D-9F17-B0141101A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