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14121"/>
        <c:axId val="67441"/>
      </c:barChart>
      <c:catAx>
        <c:axId val="21814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1"/>
        <c:crosses val="autoZero"/>
        <c:auto val="1"/>
        <c:lblAlgn val="ctr"/>
        <c:lblOffset val="100"/>
        <c:noMultiLvlLbl val="0"/>
      </c:catAx>
      <c:valAx>
        <c:axId val="67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14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3DC-50B2-4F90-8886-530A3029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653-0669-43AC-9C55-31CA311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681-E69C-4EBD-BDCA-B2CF6460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3BA-AF98-43A9-8E09-E5F05021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1DB-D562-4F6D-AAD9-154BAB1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BDB-C56F-445D-A097-ACCFC2D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D27-6BEF-4072-8142-9FDB68F6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479-FF6C-4EE3-B67D-C03148F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334-0FA6-4C10-80DE-E867086E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FEA-E808-409C-83FB-9834F7C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999-2DED-4F85-9157-F24AA18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6A7-A716-4E54-94E0-8CFDAF7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AE712-22F0-4DFC-98E8-985275A1E5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