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9888"/>
        <c:axId val="52612905"/>
      </c:barChart>
      <c:catAx>
        <c:axId val="20798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12905"/>
        <c:crosses val="autoZero"/>
        <c:auto val="1"/>
        <c:lblAlgn val="ctr"/>
        <c:lblOffset val="100"/>
        <c:noMultiLvlLbl val="0"/>
      </c:catAx>
      <c:valAx>
        <c:axId val="52612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98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7838-E9D6-44EA-8A07-FFB9361B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C84-0083-444E-AB84-6D870902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87F6-413F-46B3-8260-936628C0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F96-E56D-4B5F-A7B8-B10A921A4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B348-DC2D-4044-83A8-B2DDE259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14D2-A63D-4B8F-B6C6-B1D230D0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C35-DB8C-475B-A5E9-97F4FCA1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6522-285D-4FFC-B139-ADB0D35C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3665-F51D-4AD9-82A7-0D023904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328E-3B60-4066-B826-5531E96B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FEBB-031C-4A55-8D26-0CCBA6AF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3064-F35C-463F-AA39-96E0C015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109F0-2F8A-48BF-8BD2-17CD05AC3E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