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07555"/>
        <c:axId val="5152118"/>
      </c:barChart>
      <c:catAx>
        <c:axId val="68307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2118"/>
        <c:crosses val="autoZero"/>
        <c:auto val="1"/>
        <c:lblAlgn val="ctr"/>
        <c:lblOffset val="100"/>
        <c:noMultiLvlLbl val="0"/>
      </c:catAx>
      <c:valAx>
        <c:axId val="5152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07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CDA-6DFF-4564-9B86-C6212C8A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5FA-0DD1-451A-9E2C-3468D9C9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97A-C297-47B8-9172-405AC629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CBF-49A7-4606-8A46-F0D6F6A7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067-E8B0-4322-A3BC-E0D33499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A15-8363-434B-BCE4-45A55DC4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D10-99C5-4A2E-A75C-74F2B70D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FF3-E44A-4858-A701-E6EFE3FF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4AB-5D6D-44BB-9A94-EF8B4BE4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84D-BA80-45EA-8961-C172F74F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7F0-D587-4CAD-8FB3-35CFEA8C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458-9C88-40E1-9C36-FAEEB83A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3A1F4-32FC-4B8A-98D2-77B5C86EF3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