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7332"/>
        <c:axId val="50433518"/>
      </c:barChart>
      <c:catAx>
        <c:axId val="1987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33518"/>
        <c:crosses val="autoZero"/>
        <c:auto val="1"/>
        <c:lblAlgn val="ctr"/>
        <c:lblOffset val="100"/>
        <c:noMultiLvlLbl val="0"/>
      </c:catAx>
      <c:valAx>
        <c:axId val="50433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7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4DC-3194-4EC4-8149-3E669EE8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0AB-282C-4B2D-9331-A32C20A6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552-C82E-4574-B631-541EBDFA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493-99F0-4972-A206-873C3E17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D8F-4258-4A6D-A2B9-308497DC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860-1A97-499A-A7E2-DD1FB3FE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186-F71A-427B-A99D-7AE357E1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1C6-A445-4781-ADAF-19458D1F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EAB-FC9A-421C-A86B-A2BA2773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2DF-60B0-4D0D-98C8-AD04075A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9D0-7EDD-48AD-A2FB-0720AE4A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2DB-25C4-4A2C-8335-0C9B5799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DA4E4-1D61-45FB-A5E4-145591FF71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