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92770"/>
        <c:axId val="71870589"/>
      </c:barChart>
      <c:catAx>
        <c:axId val="66092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0589"/>
        <c:crosses val="autoZero"/>
        <c:auto val="1"/>
        <c:lblAlgn val="ctr"/>
        <c:lblOffset val="100"/>
        <c:noMultiLvlLbl val="0"/>
      </c:catAx>
      <c:valAx>
        <c:axId val="71870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92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B5B-C30D-45D4-9099-30EDBB39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C6A-DB41-44AA-B30A-EC57EA76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AC8-A1E7-4CEC-A7B1-99B43C8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7FE-EC43-4EC9-98C6-E6F38444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9ED-DE71-49E6-8219-AFAF80C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DFF-2FE5-45F4-85DC-80A7DAA7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C50-BDAC-423C-99B5-BA34ED6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0F3-FDB4-4DF4-B6A2-D6BE778E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60A-5FD8-427B-99F4-648D82A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6F4-3746-4F93-B1E6-2448113A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9A2-B197-484A-B268-1DAE7675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571-36EA-4FC6-A89A-687041A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92708-A929-4B95-BB48-AE66CC8DB9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