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11321"/>
        <c:axId val="73359049"/>
      </c:barChart>
      <c:catAx>
        <c:axId val="82711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59049"/>
        <c:crosses val="autoZero"/>
        <c:auto val="1"/>
        <c:lblAlgn val="ctr"/>
        <c:lblOffset val="100"/>
        <c:noMultiLvlLbl val="0"/>
      </c:catAx>
      <c:valAx>
        <c:axId val="73359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11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F8B-984D-4CC9-9BB0-EB9F37C9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900-6579-47C8-BFC5-279FE2C6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476-C20D-4F54-A39A-AD180F04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0B0-634D-4857-B488-53949386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B90-45C7-4E44-91F8-CA5037CF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173-A6BC-46A2-B3E9-D026D5A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597-107C-4B03-946C-7825A798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15E-23AB-4A61-9DBE-E84449A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B75-68D5-4100-9B8C-4ED6B4BE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742-96D8-4B64-BFB3-B43250D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391-E68A-4ED7-9FE1-27F2D9C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1AC-7DA6-4FC2-8757-B720FBA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834F-E443-46EF-B656-4C687EE4E7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