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08142"/>
        <c:axId val="42367740"/>
      </c:barChart>
      <c:catAx>
        <c:axId val="61208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67740"/>
        <c:crosses val="autoZero"/>
        <c:auto val="1"/>
        <c:lblAlgn val="ctr"/>
        <c:lblOffset val="100"/>
        <c:noMultiLvlLbl val="0"/>
      </c:catAx>
      <c:valAx>
        <c:axId val="423677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08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004E-67F5-41D8-8976-F63B376F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2825-52A0-430C-9324-3342EE41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3C3-3A56-4DEC-B4D3-34355845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E25-BFF1-46E5-B61C-14FAB6FE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3975-939D-4BAA-AEA9-81092D9A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125-F4E6-4F06-B978-60FA9C02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4610-68AC-4724-9877-68B23375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B1BE-89BF-4B14-9EA8-BC65D97B9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3BFD-95D1-4747-9C6D-A69154BF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CDB-58D1-4024-975F-2392CC1A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DD0A-D7F8-4AF4-852A-C2EF123D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9DBE-A291-4ECD-BCF8-A1112118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69F95-5AB9-4982-9225-DBF3B99829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