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80063"/>
        <c:axId val="17679548"/>
      </c:barChart>
      <c:catAx>
        <c:axId val="43980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79548"/>
        <c:crosses val="autoZero"/>
        <c:auto val="1"/>
        <c:lblAlgn val="ctr"/>
        <c:lblOffset val="100"/>
        <c:noMultiLvlLbl val="0"/>
      </c:catAx>
      <c:valAx>
        <c:axId val="17679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80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6FC-D74E-4775-A69B-54549B8A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69A-31D6-41F9-B3F9-A41E6AB5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9DF-34A3-4214-B582-8F2C917A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10A-DDEE-4B93-9E93-092735A5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FBA-3843-4DFC-B91C-5361D7A7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079-E27A-4558-A529-6B4606DF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F03-C33F-4D44-ACF8-E9195E85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8EF-3AF0-41C1-9FA7-F4E49D23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D55-0FDB-46D5-87A8-64C4F8C3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8B4-C06A-40D9-B4EF-21CF6F9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1C6-C994-40A4-ABB5-3924F6E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81A-7E1F-4D0E-93FC-B2FF5ED9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557D1-6A95-49ED-9D44-F6F1F3150D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