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41588"/>
        <c:axId val="95026237"/>
      </c:barChart>
      <c:catAx>
        <c:axId val="89741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26237"/>
        <c:crosses val="autoZero"/>
        <c:auto val="1"/>
        <c:lblAlgn val="ctr"/>
        <c:lblOffset val="100"/>
        <c:noMultiLvlLbl val="0"/>
      </c:catAx>
      <c:valAx>
        <c:axId val="95026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1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209-F7FC-4A91-8D25-AA97B327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2F7-8FC3-4821-8814-ED1340A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402-1CA9-4CA6-8795-11FBF1D0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953-369C-4B01-8C84-039259E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2AD-5D13-4643-8482-90822AB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4AA-FDF3-4421-A4A2-40A0E9E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C81-A7CF-444D-A6D1-49DB484E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FE4-6822-4F46-A51B-78C952B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69A-C363-49D5-9557-A17F40E8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2B7-0BFB-47A9-9D5F-C71CBC0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19A-09F2-42B5-B5B2-09C18E0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C35-DD34-4D65-8824-42AC8336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78571-E661-4350-9901-BFF1259CE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