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61512"/>
        <c:axId val="88569507"/>
      </c:barChart>
      <c:catAx>
        <c:axId val="65615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569507"/>
        <c:crosses val="autoZero"/>
        <c:auto val="1"/>
        <c:lblAlgn val="ctr"/>
        <c:lblOffset val="100"/>
        <c:noMultiLvlLbl val="0"/>
      </c:catAx>
      <c:valAx>
        <c:axId val="885695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15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B908-8D87-4A24-B8B0-59B29CB7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BFFE-68B6-4255-A556-281BBD96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E492-7161-4AF6-ACAB-9C2D05A8E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5F48-3576-422D-903E-E0FEF779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2547-B0F1-41C5-9CBF-23899A31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2219-4E95-4FFD-B1A5-B12CA815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DECF-99EA-437C-99E9-2CC8457A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99A1-B7DB-4628-BE99-B01327F6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E15D-55C8-42EA-B7C4-F87F163B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5E4E-6767-41DC-BA95-5D4F7136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0477-7391-4EF8-B9B2-F50775A8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D1B9-7AE4-44C9-8976-A9C79E15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4C404-9B58-4156-B8C0-E740928C50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