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30151"/>
        <c:axId val="95589940"/>
      </c:barChart>
      <c:catAx>
        <c:axId val="77830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89940"/>
        <c:crosses val="autoZero"/>
        <c:auto val="1"/>
        <c:lblAlgn val="ctr"/>
        <c:lblOffset val="100"/>
        <c:noMultiLvlLbl val="0"/>
      </c:catAx>
      <c:valAx>
        <c:axId val="95589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30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60A-3286-4414-94E1-81FE9A16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A9E-6807-4CBD-86B4-69806406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3E5-35BE-4ADE-8AAE-862A6C27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A48-89C1-490D-9367-E8C1AAD7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941-1594-4567-BF19-A73EE22B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5DF-7F47-448B-903F-3EB50E5B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247-4ECF-42F9-9DCC-871EE35A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4F3-A5BD-4B7B-8D21-A83EBBF5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3DF-414E-4688-97CA-4787B33A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3E7-FB9F-4C5B-8808-1117F2B2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D5E-BC46-4F81-A767-94FF4F22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C53-3068-4EA2-9389-34112706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05B07-E07C-4EE3-AA38-736FC5DB8B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