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5531893"/>
        <c:axId val="14226553"/>
      </c:barChart>
      <c:catAx>
        <c:axId val="1553189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226553"/>
        <c:crosses val="autoZero"/>
        <c:auto val="1"/>
        <c:lblAlgn val="ctr"/>
        <c:lblOffset val="100"/>
        <c:noMultiLvlLbl val="0"/>
      </c:catAx>
      <c:valAx>
        <c:axId val="1422655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53189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57E14-B164-4B36-8C50-879395746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0712E-B6A1-4601-814C-2148DDA1D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98585-4496-44F0-88AE-AFD34C73B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FF84E-E644-43C5-941D-A8A34DE70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35E3E-AD5F-4953-A369-DBEACCA7A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9D100-A2BB-4C1A-8D05-6BB773D9C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D4042-D783-487D-BC35-55D80BDF8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D30D0-D88B-4C2E-94D3-3E8229122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97CC6-A412-4906-B8E0-4249D2D12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06BE3-E0EB-42E5-9ABF-18A015E5B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D135B-036F-4AD8-B39D-83D95850F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B33CB-0444-4C13-A008-57C4A7C7A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798BB8-ABD6-4D92-B2F9-4A948A4E3FE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