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32708"/>
        <c:axId val="44580769"/>
      </c:barChart>
      <c:catAx>
        <c:axId val="83332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80769"/>
        <c:crosses val="autoZero"/>
        <c:auto val="1"/>
        <c:lblAlgn val="ctr"/>
        <c:lblOffset val="100"/>
        <c:noMultiLvlLbl val="0"/>
      </c:catAx>
      <c:valAx>
        <c:axId val="44580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32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927-DF49-4AEF-A4C9-1AABFE34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C4F-48DA-4139-998B-16E22F71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0C4-659D-4056-8C4F-E2B82EDA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AAC-CFFA-4350-BF90-6C040DC9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FBB-01CE-4273-815D-55AC31B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73A-B428-4A83-ADFB-EE1F613C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C9E-0753-4D5E-B7D2-640B283F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E33-5456-482F-B6AD-F3C82779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B56-E833-4539-8C5D-F673AAB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C7A-B339-4F6F-B4FB-7C9456B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1F1-BCE0-41DF-8803-E340093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DAE-7BD6-41D9-9941-8694809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AF52-A549-44E6-B9ED-D785897A9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