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79812"/>
        <c:axId val="89584259"/>
      </c:barChart>
      <c:catAx>
        <c:axId val="53679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84259"/>
        <c:crosses val="autoZero"/>
        <c:auto val="1"/>
        <c:lblAlgn val="ctr"/>
        <c:lblOffset val="100"/>
        <c:noMultiLvlLbl val="0"/>
      </c:catAx>
      <c:valAx>
        <c:axId val="89584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79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450-0513-4A21-AD63-FC055CDD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0E1-B9C0-48D4-BDF7-8842AB68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E91-736B-4C0F-B535-C81DA80E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096-BB4E-40A8-BF55-0722CEFD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1A6-59A3-4310-AB9E-FA683735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60D-074B-45EA-8448-16A0B72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388-842C-4153-B59D-EAFC9A5E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965-174D-45B8-8AEA-80D22820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155-C3DA-43FA-95E6-85985DE3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BD3-4828-4EC8-B60B-A78948B3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A26-4F44-4480-A4B2-3EBCF89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525-AD27-4E34-B09E-12AAF11E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5D46B-8F85-483E-8526-F6C7967D73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