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46977"/>
        <c:axId val="11332173"/>
      </c:barChart>
      <c:catAx>
        <c:axId val="15846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32173"/>
        <c:crosses val="autoZero"/>
        <c:auto val="1"/>
        <c:lblAlgn val="ctr"/>
        <c:lblOffset val="100"/>
        <c:noMultiLvlLbl val="0"/>
      </c:catAx>
      <c:valAx>
        <c:axId val="11332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46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95E-9E10-4DFD-B463-B0DE9EB8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F27-B4BE-495B-A555-0760E3D5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8568-3627-4A67-BAE8-6A76EDC1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1348-7045-4CF7-971B-5FCF093D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84AC-D532-4CC0-9584-0680D5A7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2E7-B0E5-4202-97D2-43C68AFD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D73-77A5-45F1-87DC-2C746D1F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AFC-8403-4B5D-9900-ADC785EE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64B-8261-4D1C-B4B2-4A22E363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76D-0833-4077-AE8E-57BF281C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BC3-F8A7-406C-89D3-0167ADDA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46A-2840-4225-93CB-C01BF966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4403E-A25F-4F4E-B9BC-44DC63C478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