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08484"/>
        <c:axId val="62778368"/>
      </c:barChart>
      <c:catAx>
        <c:axId val="13008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8368"/>
        <c:crosses val="autoZero"/>
        <c:auto val="1"/>
        <c:lblAlgn val="ctr"/>
        <c:lblOffset val="100"/>
        <c:noMultiLvlLbl val="0"/>
      </c:catAx>
      <c:valAx>
        <c:axId val="62778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08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C45-15CF-48CA-9E32-B055C80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B85-517F-4177-987C-C083E74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E34-BFA5-434C-9DC3-DDD734D0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C55-72CE-44D3-937E-29303AFA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A15-965C-4E8B-AD22-B73242BC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5C8-A4D2-4B85-9B77-B3E04AF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C89-D38B-40D8-BC04-42A3A5DF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29F-F4AD-419C-B5BC-EB66A3C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302-A1B7-4EFE-A821-60068F4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435-9A63-428F-B7E6-1957817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C12-0311-4D58-8F7F-B5317C7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BD1-5CE0-40F4-BFFE-FEAA3D1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148A6-9BD9-4C47-8DF4-F1CE1513B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